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F51-0D4B-4CA5-83F8-4985D656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3F-7413-4035-8E27-C49DBCA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D58-1034-4152-9ABD-4247AE03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4F8-9AEF-4F2D-A84C-EC9C4401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E43-C1C9-4FBF-A727-F69713A4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D1-04DB-4A66-B552-6099E273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327-9A4C-4A42-97BE-65DBA97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F87-6D1A-4AAB-8A69-632AA8EC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9D9-0AE6-4842-BED8-083D9CDB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07D-21A8-42FB-8B8A-E58C999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6B0-A841-41C3-87EE-31E0B2D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272-98B7-47EC-A033-589E40C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333-C7C7-4B25-814D-F8D44C32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in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2819520"/>
          <a:ext cx="7162920" cy="347328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524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 of Chem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u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ombustion of a fuel with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, oil, or coal burning in a furn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f electricity to break a compound into elements or simpler compo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ing down water into hydrogen and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combination of a substance with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ting of an iron f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is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combination of a bright metal with sulfur or another sub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ishing of br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ervation of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w of conservation of mass:  Matter is not created or destroyed in any chemical or phys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ergy:  is the ability to do work or caus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chemical and physical change in matter includes a change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perature and Thermal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mperature: is a measure of the average energy of random motion of particles of mat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mal energy:  is the total energy of all particles in an ob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and thermal energy are not the same thing, but are rel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mal Energy and Changes in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atter changes energy is either released or absorb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types of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rm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therm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othermic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dothermic change is when energy is taken in.  “endo” means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When ice melts it is taking in what type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othermic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in matter when energy is released. “exo” mea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How does a car ru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a physical chang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a chemical chang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hanges in matter are related to changes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hys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hem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changes in matter related to change in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thermic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category of changes in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m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any change that alters the form or appearance of matter but does not make any substance in the matter into a different subst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A substance that undergoes physical change is still the same substance after the change.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s of state:  Changes from solids, liquids, and ga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hanges from liquid to gas, but it is still w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s in shape or 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re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thing else that changes shape or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change in matter that produce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one or more new substa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4:00:55Z</dcterms:created>
  <dc:creator>CHS</dc:creator>
  <dc:description/>
  <dc:language>en-US</dc:language>
  <cp:lastModifiedBy>CHS</cp:lastModifiedBy>
  <dcterms:modified xsi:type="dcterms:W3CDTF">2009-10-01T19:41:08Z</dcterms:modified>
  <cp:revision>3</cp:revision>
  <dc:subject/>
  <dc:title>Change in Matter</dc:title>
</cp:coreProperties>
</file>